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779EF-F255-4E62-B5ED-3F42F0D46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7B1CD-D375-4155-82A1-A6BBDB76B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ED156-E8A2-4BD0-ACE7-13E52B956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71B32-1088-4118-8C78-AE7460743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FE292-B434-40FD-B82E-5DBAD1D12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E7248-561C-4CD8-9264-80CD3A443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8E4DB-2773-4C17-B9EB-A7AD4922F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5E3-152A-4FF6-8F32-35CE42A5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ACC-7E75-4EA3-B6C7-F3851B6C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880-8688-4938-986C-C36AB9ED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CCB-910A-4739-AAEE-C2F655AB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847-78FD-4FF9-9E55-93D733E5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1C3-DE16-4214-BF52-1C7BF38E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3F3-8E2E-40B3-96B2-3D75A6C7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DF9-7E8E-4A1E-84B3-631D5DB8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3C8-205B-4D11-9A93-DD215F2A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538-2CD1-49EA-8A4B-69FD05AF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0F3-6F49-49AC-9B64-623158D0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4D7-B665-4CC9-A8CD-2CE316EE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536C4-0335-4D0B-AE68-682EE0AE8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886932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cture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in simple dat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tions between databases and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3280" y="4571640"/>
            <a:ext cx="9097920" cy="214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Tammet, T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lational db table and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d     name   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john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 pete       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1,john,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2,pete,-2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.name, client.bal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rom client  where  balance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I,N,B) &amp; B&lt;0 -&gt; answer(N,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? answer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lient table:                                     Cars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d     name    balance             id    model  ow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1      john      100                   1      ford     1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2      pete       -200                 2      opel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3      saab    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lect client.name,cars.model from client, cars where client.id=cars.ow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I,N,B)   &amp; model(J,M,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-&gt;  ans(N,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presenting complex structures in relational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3000"/>
          </a:bodyPr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+(*(1,2.5)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d   op  a1   t1    a2  t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*     2    D      1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+    1     T      3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Data:     varchar  typ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“2.5” 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“1”   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3      “3”       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pecial relational db gadg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ull:   null values in two different locations are never equal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1,jaan,null)  and car(1,opel,null) then null in client is not equal to null in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ists X. client(1,jaan,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ists X. car(1,opel,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gad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47000"/>
          </a:bodyPr>
          <a:p>
            <a:pPr marL="160920" indent="-160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d   name 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1     jan   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2     pete   -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 TABLE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PRIMARY KEY (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.name(1)=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.name(2)=p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.balance(1)=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ultiple r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yments: no prima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 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 5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yments(1,100)  …. payments(1,100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Open versus clos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assical logic is op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We know N facts. We do NOT say that only these N facts hold: maybe there are M more facts which are true but which we do not k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 databases we normally assume that world is closed (minus errors): all we clients are in our database. All their payments are in our databas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of 1st order predicat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of data i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as predicates: straightforward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and joins a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objects and features: multiple rows, 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structures in db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keys as a way to encod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1: pro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 fontScale="99000"/>
          </a:bodyPr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jan,pe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jan,mart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tin,mat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frank,ma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ther(mary,mik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:- father(X,Y), father(Y,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:- father(X,Y), mother(Y,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ueri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father(martin,mi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father(jan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grandfather(X,mi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(jim,p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all X,Y (bother(X,Y) =&gt; brother(Y,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all X,Y (brother(X,Y) =&gt; man(X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: ma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man(jim), man(p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wi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pete)=j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tin)=ja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tt)=mart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y)=fr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ther(mike)=m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&lt;- father(Y)=X &amp; father(Z)=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andfather(father(father(X)),X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&lt;- father(Y)=X &amp; mother(Z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andfather(father(mother(X)),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logic have no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p1)=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1)=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2)=m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3)=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(m4)=m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m(X,Z) &lt;- foo(Y)=X &amp; foo(Z)=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m(foo(foo(X)),X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m(X,Z) &lt;- foo(Y)=X &amp; bar(Z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m(foo(bar(X)),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aning of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elations give meaning t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hat about = ??  father(john)=pete then just replac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hree basic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Y) -&gt; e(Y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Y) &amp; e(Y,Z) -&gt; e(X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amples: parallel lines, &gt;=,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aning of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ubstitution rules of equa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Y)  &amp; father(X,Z)  -&gt;  father(Y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Y)  &amp; father(Z,X)  -&gt;  father(Z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Y)  &amp; e(father(X),Z) -&gt; e(father(Y)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c for all predicates and functions we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Built-in procedures for relations and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rithmetics + * etc: procedural attachments (procedural data re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ring, list, date, file etc etc proc attac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5:51Z</dcterms:created>
  <dc:creator>Tanel Tammet</dc:creator>
  <dc:description/>
  <dc:language>en-US</dc:language>
  <cp:lastModifiedBy>Department of Informatics</cp:lastModifiedBy>
  <dcterms:modified xsi:type="dcterms:W3CDTF">2011-02-07T11:44:31Z</dcterms:modified>
  <cp:revision>18</cp:revision>
  <dc:subject/>
  <dc:title>Knowledge representation  lecture 2   Plain simple data:  relations between databases and logic</dc:title>
</cp:coreProperties>
</file>